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3882-088B-4405-9F16-65A7CCE9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E25-2F54-4A9B-9D4A-B5C1ACF1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C87-591A-44D1-BB1B-52E7DE04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8533-9262-43E1-963A-F49EAD8C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91D-69D4-46AC-AA4F-43FC4ACE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09AC-5536-4F4D-8DE6-E641FF2C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C28D-5AF0-40CB-B272-54BB28EC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E32-C83F-4E5B-9132-AC32CE3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155-8F27-4AB5-BAB4-5035E8C3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D1E-31A2-402A-AA12-6D5B7197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F1F5-41DB-468E-A665-5C631423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C32-CEA2-4996-82F9-C1D28B9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A38-5309-499D-A402-CB2838F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3C06-510C-4D41-826B-8A6B254D14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hyperlink" Target="http://ww.fruitfly.org/annot/apollo/install.html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Arial"/>
              </a:rPr>
              <a:t>Apollo Future Plans</a:t>
            </a:r>
            <a:br>
              <a:rPr sz="48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omi Harris, BDGP/FlyBas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638320"/>
            <a:ext cx="74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Cambri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ril 27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new view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ptide view (similar to Exon Detail Editor--would let you annotate cleavage sites, disulfide bond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view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l 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portunities for collab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2514600"/>
            <a:ext cx="54864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upport for fragmentary genom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omes now being sequenced to low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support for viewing partial genomic assemb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ebsta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be able to click on a Web link (e.g. for a transposable element) and have it launch Apollo on appropriate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webstart progres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empty Apollo (platform-indepen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unch Apollo on specific region (but only with certain browsers on Linu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platform and browser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AME XML DT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XML is still the most completely supported format in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e GAME XML DTD (be sure to document "magic" properties, e.g. translation excep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ested by groups trying to convert their data to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design ti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ual indication of whether a tier is expanded or collap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r labels/buttons on separate panel that scrolls along with main pa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tons launch tier/typ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arent tiers that can be dragged around and overla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kinds of tiers, e.g. graphs (like GC content or gene dens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ynteny view more robust as an editor (has mostly been tested as a brows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 distinction between single-species Apollo and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now, Synteny view assumes two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always be in n-species mode, where sometimes n=1, sometimes n=2, and sometimes n&gt;2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ble to read data for different species from different  adap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Synteny navigation from whole-chromosome view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48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synteny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user to navigate between multiple disjoint contigs (e.g. for D. pseudoobsc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similarity graph to show amount of conservation between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links with response to similarity graph threshold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ways to present comparative da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yBase/Berke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 contribu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ve Searle, Michele Clamp, Vivek I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HM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Rich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Base cu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d Goodstein (added regexps to Find; read/write JGI relational 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do adap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G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nathan Crabtr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.fruitfly.org/annot/apollo/install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o/redo individual ed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ete transcript, change 3’ end, add com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tion recording is first st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alysis adap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barrier to importing data into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t you read raw analysis results (BLAST, sim4, GENSCAN, etc.) and filter appropriately (using integrated B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debugging raw analysis loader; improve user interface;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genomic to be subject (not just que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ally figure out coordinate offset of analysis results by doing simple alig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bining data adapters for concurrent load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the ability to request data from multiple different sources from a single “Open” reque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 directory containing various raw analysis results on a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llo should figure out which type of results each file contains and parse/filter them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define default filtering parameters for each input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 data from multiple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read an XML file and then overlay with a GenBank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hado adap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ing TIGR’s (JDB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O-compl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zy/selective loading for improved performance (time &amp; memo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embl db adapter does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x memory leak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llo uses a lot of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ory leaks needlessly waste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s slowly on smaller compu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even freeze up your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enBank reader/writer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/debug new GenBank rea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able Apollo to write human-readable GenBank format (currently only writes feature 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table2human convert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atically call table2asn (so you can run Sequi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notation of new feature typ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it possible to annotate non-gene features, e.g.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RNAs, peptides, transposable elements, sequence variations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pollo to read SO and use hierarchy of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 the annotation of sequences other than genom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ssible new editing interfaces neede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variation editor to annotate differences between current reference sequence and related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tate SNPs and other allelic dif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ced-together gene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size of intr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ful for vertebrate gen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NA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4-04-27T01:49:54Z</dcterms:modified>
  <cp:revision>378</cp:revision>
  <dc:subject/>
  <dc:title>Slide 1</dc:title>
</cp:coreProperties>
</file>